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A1B-3276-4D24-9942-522D48E9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7D9-300C-4260-98B6-A0B9B30D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41A-AE0D-49FA-BAD4-46FC7B16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C2A-3180-49FE-95C2-37110974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E7D7-5E37-40CC-8B9C-B1319224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C620-017D-49A1-BA4D-CC670493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BD4D-2A3F-4097-8DAB-B2047A3E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B6D4-9715-4A88-88CE-9C9EF21B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8577-347A-45EC-B1FA-5B68F1A8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34A4-B30E-4DB5-BF92-B0A07943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5A34-F13A-4B59-A71F-10FF9640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30E-E74E-4BA5-B654-9E61063D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BE46-3983-438E-95A8-71EE34C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7480-9931-4D2C-8374-5A54B90B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B8EE-1A5C-4064-94B6-76D174E9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7DB9-6DAD-4C84-9874-059309B9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090E-41D4-464C-B500-00CB05D5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BF7A4-5DB5-49E0-BC25-64DEC561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F676-C275-4342-B99D-3324A537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AEEC-9009-417E-B38C-2AC21616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2711-8100-4FBC-94FB-AFFDD88D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E7FC-6FA7-4468-A197-35BCD45D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1B8-549E-46DB-A651-543A1091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E285-23DA-40D9-93B9-B981E150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7F48-53D6-4EEC-AC79-EAEFCB4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B191-2F00-4999-9E84-213154C7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5BE34-5927-4606-AD78-D1240E4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ECDE-5841-43BE-80B0-834D87E6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E2D8-3A5E-4AC7-917C-0CCE74FA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072E-0DE5-4DC9-BF7A-80AE1D7B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9F78-D59B-4505-ABCA-480867FF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C8CF1-1BB5-42BA-8095-A3ECD2A2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B995-B886-4ED4-B4B6-B11F0319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F03-BC63-4A0E-884C-8E9C9E8C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B002C-83F8-46D5-9C1A-2C6A3485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A2F4B-E508-4AED-9839-CE967917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EBD0-12DF-452C-B58E-A3F236D3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8E88-768A-440A-A1D9-0C314CB7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18ED-7FF5-4CDD-9443-2BB32B1A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6F3F-9CAE-4904-BB0F-94CCA59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5964-1F7C-4E26-8510-2DC4774F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ED17-60B9-4DC9-B61D-A8BB3A7C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2492-2ECF-4927-90C1-4A3E8C91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D130-EFDC-4EDD-9ACF-9588F509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6F2-0091-420D-85D5-3C9BEE56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33A0-0D45-441D-9DEA-E00EF9EC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17F7-F2A8-4ACA-95F3-E86CF30D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57330-4C62-4E9F-A9D9-8CE15A2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EED7-0436-43E8-9D7F-EDA540F1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45548-8446-4A71-9984-DB0FB3BF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6BF3-3D98-4309-9214-EA6978D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3AC18-B3F5-4BEE-93AB-27A601B5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82618-2723-4C2C-9F0F-E45A7A63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C93FB-2076-4803-9813-A918B4A0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1ECD-674F-4F20-9AF5-7CD49363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AF8-FC03-4943-93F9-33EA9574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30274-0DB6-4565-925A-A9DA2B78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FB5-3FB2-437C-BB00-140BC133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EE6-962F-40D9-8BF3-3A9E82E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2DF-9C45-4DC8-B823-34310911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BCD6-4A7B-42F9-8BA1-E9179E90EA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FDEF-278C-433E-B97F-04BFDA5ED6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C540-2E93-4057-B501-8970C71C50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B44A-2D8B-4598-AD92-2E3D7757AC12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B2A1-2862-4421-B05E-E56B903004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HINDUISM AND BUDDHISM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elief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Four Noble Truths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(heart of Buddhism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1. all life is full of suffering, pain and sorrow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2. cause of suffering is desire for worldly goods (possessions, love, etc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3. only cure is to overcome this desir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4. to overcome this desire one must follow the Eightfold Pat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7840" y="114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Eightfold Path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4952880" y="166680"/>
            <a:ext cx="4000680" cy="42670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 rot="1992000">
            <a:off x="3056760" y="81936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Users\alyons\Desktop\Global 2013\Korean Photos\DSC_0913.JPG"/>
          <p:cNvPicPr/>
          <p:nvPr/>
        </p:nvPicPr>
        <p:blipFill>
          <a:blip r:embed="rId2"/>
          <a:stretch/>
        </p:blipFill>
        <p:spPr>
          <a:xfrm>
            <a:off x="5715000" y="4834080"/>
            <a:ext cx="3083040" cy="2049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:\Users\alyons\Desktop\Global 2013\Korean Photos\DSC_0929.JPG"/>
          <p:cNvPicPr/>
          <p:nvPr/>
        </p:nvPicPr>
        <p:blipFill>
          <a:blip r:embed="rId3"/>
          <a:stretch/>
        </p:blipFill>
        <p:spPr>
          <a:xfrm>
            <a:off x="533520" y="2608200"/>
            <a:ext cx="415764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914400"/>
            <a:ext cx="75218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f you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Understand Four Noble Truth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llow Eightfold Pat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llow the </a:t>
            </a:r>
            <a:r>
              <a:rPr b="0" i="1" lang="en-US" sz="2800" spc="-1" strike="noStrike">
                <a:solidFill>
                  <a:srgbClr val="ff0000"/>
                </a:solidFill>
                <a:latin typeface="Franklin Gothic Book"/>
              </a:rPr>
              <a:t>Middle Path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/Middle Way-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life of balance not too much pleasure and not too much pai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nd Meditat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You can become Enlightened, or reach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Nirvana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, being one with the universe (no more reincarnation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pread of Buddhis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issionaries and traders spread Buddhism throughout Asia (Silk Road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Declined in India however, many beliefs absorbed by Hinduis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ver time Buddhism was split into 2 major sect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Franklin Gothic Book"/>
              </a:rPr>
              <a:t>Theravada-</a:t>
            </a:r>
            <a:r>
              <a:rPr b="0" i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nly most dedicated can reach enlightenm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Franklin Gothic Book"/>
              </a:rPr>
              <a:t>Mahayana-</a:t>
            </a:r>
            <a:r>
              <a:rPr b="0" lang="en-US" sz="1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ordinary people can reach enlightenment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5" descr="http://mrgrayhistory.wikispaces.com/file/view/China_-_Spread_Buddhism.jpg/244021519/827x575/China_-_Spread_Buddhism.jpg"/>
          <p:cNvPicPr/>
          <p:nvPr/>
        </p:nvPicPr>
        <p:blipFill>
          <a:blip r:embed="rId1"/>
          <a:stretch/>
        </p:blipFill>
        <p:spPr>
          <a:xfrm>
            <a:off x="1447920" y="2895480"/>
            <a:ext cx="62672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6" descr="http://www.world-faiths.com/images/Maitreya.bud.1.jpg"/>
          <p:cNvPicPr/>
          <p:nvPr/>
        </p:nvPicPr>
        <p:blipFill>
          <a:blip r:embed="rId1"/>
          <a:stretch/>
        </p:blipFill>
        <p:spPr>
          <a:xfrm>
            <a:off x="914400" y="3683160"/>
            <a:ext cx="2575080" cy="32004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YMBOLS OF 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4" descr="http://innerouteryou.com/blog/wp-content/uploads/buddhism.jpg"/>
          <p:cNvPicPr/>
          <p:nvPr/>
        </p:nvPicPr>
        <p:blipFill>
          <a:blip r:embed="rId2"/>
          <a:stretch/>
        </p:blipFill>
        <p:spPr>
          <a:xfrm>
            <a:off x="138240" y="1014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http://www.youngupstarts.com/wp-content/uploads/2012/05/symbol-buddhism-pink-lotus-flower.jpg"/>
          <p:cNvPicPr/>
          <p:nvPr/>
        </p:nvPicPr>
        <p:blipFill>
          <a:blip r:embed="rId3"/>
          <a:stretch/>
        </p:blipFill>
        <p:spPr>
          <a:xfrm>
            <a:off x="5257800" y="121932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C:\Users\alyons\Desktop\Global 2013\Korean Photos\DSC_0724.JPG"/>
          <p:cNvPicPr/>
          <p:nvPr/>
        </p:nvPicPr>
        <p:blipFill>
          <a:blip r:embed="rId4"/>
          <a:stretch/>
        </p:blipFill>
        <p:spPr>
          <a:xfrm>
            <a:off x="4343400" y="4038480"/>
            <a:ext cx="39625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2" descr="C:\Users\alyons\Desktop\Global 2013\Korean Photos\Lotus Tea Ceremony.JPG"/>
          <p:cNvPicPr/>
          <p:nvPr/>
        </p:nvPicPr>
        <p:blipFill>
          <a:blip r:embed="rId1"/>
          <a:stretch/>
        </p:blipFill>
        <p:spPr>
          <a:xfrm>
            <a:off x="3048120" y="380880"/>
            <a:ext cx="5832360" cy="3878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Users\alyons\Desktop\Global 2013\Korean Photos\Me with Sangdon Buddha.JPG"/>
          <p:cNvPicPr/>
          <p:nvPr/>
        </p:nvPicPr>
        <p:blipFill>
          <a:blip r:embed="rId2"/>
          <a:stretch/>
        </p:blipFill>
        <p:spPr>
          <a:xfrm>
            <a:off x="304920" y="1295280"/>
            <a:ext cx="34383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imilariti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ame traditions/roo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oth stress nonviolence and intense reflecti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oth believe in karma, dharma, and reincarnati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oth religion’s goal is to reach enlightenment (nirvana or moksha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ifferenc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uddhism does not rely on priests- individuals can reach enlightenmen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uddhism rejects caste syste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uddhism’s founder is a huma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indus worship many gods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 AND 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920" y="1096560"/>
            <a:ext cx="41148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Basic facts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Combination of many ancient religion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Began as a </a:t>
            </a:r>
            <a:r>
              <a:rPr b="0" lang="en-US" sz="1900" spc="-1" strike="noStrike">
                <a:solidFill>
                  <a:srgbClr val="ff0000"/>
                </a:solidFill>
                <a:latin typeface="Franklin Gothic Book"/>
              </a:rPr>
              <a:t>Polytheistic</a:t>
            </a: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 Religion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Aryan and Indus River Valley religions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9520" indent="-158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anklin Gothic Book"/>
              </a:rPr>
              <a:t>More beliefs/ideas slowly added on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Belief in many gods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All are part of an all-powerful spiritual force called </a:t>
            </a:r>
            <a:r>
              <a:rPr b="0" i="1" lang="en-US" sz="2200" spc="-1" strike="noStrike">
                <a:solidFill>
                  <a:srgbClr val="ff0000"/>
                </a:solidFill>
                <a:latin typeface="Franklin Gothic Book"/>
              </a:rPr>
              <a:t>brahman 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407664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057400" y="380520"/>
            <a:ext cx="320040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rinity of Important God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rahma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hiva (destroyer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Vishnu (preserver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 rot="19968600">
            <a:off x="-290520" y="-52200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RIMURTI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2" name="Picture 2" descr="http://upload.wikimedia.org/wikipedia/commons/b/bf/Shiva_as_the_Lord_of_Dance_LACMA_edit.jpg"/>
          <p:cNvPicPr/>
          <p:nvPr/>
        </p:nvPicPr>
        <p:blipFill>
          <a:blip r:embed="rId1"/>
          <a:stretch/>
        </p:blipFill>
        <p:spPr>
          <a:xfrm>
            <a:off x="457200" y="3429000"/>
            <a:ext cx="2749680" cy="3530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indu-brahma.jpg"/>
          <p:cNvPicPr/>
          <p:nvPr/>
        </p:nvPicPr>
        <p:blipFill>
          <a:blip r:embed="rId2"/>
          <a:stretch/>
        </p:blipFill>
        <p:spPr>
          <a:xfrm>
            <a:off x="5105520" y="120600"/>
            <a:ext cx="36385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9907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Basic Facts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acred texts- </a:t>
            </a:r>
            <a:r>
              <a:rPr b="0" i="1" lang="en-US" sz="2400" spc="-1" strike="noStrike">
                <a:solidFill>
                  <a:srgbClr val="ff0000"/>
                </a:solidFill>
                <a:latin typeface="Franklin Gothic Book"/>
              </a:rPr>
              <a:t>Vedas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Upanishads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Bhagavad-Gita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ltimate goal of life is to achieve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moksha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or union with brahman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n order to do this, a soul must be </a:t>
            </a:r>
            <a:r>
              <a:rPr b="0" i="1" lang="en-US" sz="2400" spc="-1" strike="noStrike">
                <a:solidFill>
                  <a:srgbClr val="ff0000"/>
                </a:solidFill>
                <a:latin typeface="Franklin Gothic Book"/>
              </a:rPr>
              <a:t>reincarnated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rough different form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f you live according to </a:t>
            </a:r>
            <a:r>
              <a:rPr b="0" i="1" lang="en-US" sz="2400" spc="-1" strike="noStrike">
                <a:solidFill>
                  <a:srgbClr val="ff0000"/>
                </a:solidFill>
                <a:latin typeface="Franklin Gothic Book"/>
              </a:rPr>
              <a:t>dharma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moral duty, and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ahimsa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nonviolence, you can move up each time you are reincarnat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Franklin Gothic Book"/>
              </a:rPr>
              <a:t>Karma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efers to the actions you make in one life that determine your fate in the next lif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5" descr="http://1.bp.blogspot.com/-qVkjj_whYH8/USkw-oo13PI/AAAAAAAACgY/-GIM8ILK3U8/s640/karma.jpg"/>
          <p:cNvPicPr/>
          <p:nvPr/>
        </p:nvPicPr>
        <p:blipFill>
          <a:blip r:embed="rId1"/>
          <a:stretch/>
        </p:blipFill>
        <p:spPr>
          <a:xfrm>
            <a:off x="6019920" y="4419720"/>
            <a:ext cx="2325600" cy="2255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http://www.indiebusinessnetwork.com/wp-content/uploads/2011/09/negativetopositive.jpg"/>
          <p:cNvPicPr/>
          <p:nvPr/>
        </p:nvPicPr>
        <p:blipFill>
          <a:blip r:embed="rId2"/>
          <a:stretch/>
        </p:blipFill>
        <p:spPr>
          <a:xfrm>
            <a:off x="2209680" y="4572000"/>
            <a:ext cx="2419560" cy="1712880"/>
          </a:xfrm>
          <a:prstGeom prst="rect">
            <a:avLst/>
          </a:prstGeom>
          <a:ln w="0">
            <a:noFill/>
          </a:ln>
        </p:spPr>
      </p:pic>
      <p:cxnSp>
        <p:nvCxnSpPr>
          <p:cNvPr id="228" name="Elbow Connector 2"/>
          <p:cNvCxnSpPr/>
          <p:nvPr/>
        </p:nvCxnSpPr>
        <p:spPr>
          <a:xfrm flipV="1">
            <a:off x="4419360" y="4647960"/>
            <a:ext cx="991080" cy="900720"/>
          </a:xfrm>
          <a:prstGeom prst="bentConnector3">
            <a:avLst>
              <a:gd name="adj1" fmla="val 50000"/>
            </a:avLst>
          </a:prstGeom>
          <a:ln w="6984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29" name="Elbow Connector 4"/>
          <p:cNvCxnSpPr/>
          <p:nvPr/>
        </p:nvCxnSpPr>
        <p:spPr>
          <a:xfrm flipV="1" rot="10800000">
            <a:off x="1218600" y="5426640"/>
            <a:ext cx="1219680" cy="973800"/>
          </a:xfrm>
          <a:prstGeom prst="bentConnector3">
            <a:avLst>
              <a:gd name="adj1" fmla="val 49985"/>
            </a:avLst>
          </a:prstGeom>
          <a:ln w="73080">
            <a:solidFill>
              <a:srgbClr val="76787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228600" y="190440"/>
            <a:ext cx="4762440" cy="66675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5105520" y="182880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heel is an important Hindu symbol because it demonstrates the cyclical nature of life, or reincar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Caste System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layed an important role in Hinduism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elieve that each level was a different species of be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Higher you were closer you were to moksha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3962520" y="533520"/>
            <a:ext cx="45432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INDUISM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2240" y="1100160"/>
            <a:ext cx="752184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aste system originally based on occupation – unable to move up it in lif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owever, it did provide social order/stabilit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Provided identity and interdependence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67760" indent="-1677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arriage across castes was originally prohibited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efore long Hinduism spread throughout India and Asia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www.worldreligions.psu.edu/images/artimages/maps/asian%20religions.jpg"/>
          <p:cNvPicPr/>
          <p:nvPr/>
        </p:nvPicPr>
        <p:blipFill>
          <a:blip r:embed="rId1"/>
          <a:stretch/>
        </p:blipFill>
        <p:spPr>
          <a:xfrm>
            <a:off x="762120" y="457200"/>
            <a:ext cx="7789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560" y="10666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ased on teachings of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mortal ma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y is that important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Siddhartha Gautama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orn into royalty 563 BC and chose to wander country looking for life without suffering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nd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enlightenment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through meditation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pent his life teaching his way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3814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8:59:09Z</dcterms:created>
  <dc:creator>Sansbury, Kevin</dc:creator>
  <dc:description/>
  <dc:language>en-US</dc:language>
  <cp:lastModifiedBy>Windows User</cp:lastModifiedBy>
  <dcterms:modified xsi:type="dcterms:W3CDTF">2013-10-29T18:37:02Z</dcterms:modified>
  <cp:revision>15</cp:revision>
  <dc:subject/>
  <dc:title>3.2 Hinduism and Buddhism</dc:title>
</cp:coreProperties>
</file>